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B6F-620E-4C69-AE2A-3A27C33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658-47B3-432A-99A1-D142343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058-0407-4F71-BB86-E84D8CB4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CA3-3ADF-4AF3-9A6A-CAB4E949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88C-5E41-42D7-8767-4C8B7992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6B2-AB63-4FC3-A55E-7FB77269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B9E-0D8F-422D-B616-BEEE61E4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26D-5DA4-404C-93A0-49AB84F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29B-B4D8-436A-948E-3E8512C3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E78-B6F8-4137-8E46-108AE712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462-E83A-4A59-ADAA-5CE87E9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680-C5D2-4DA5-8D79-4F041D4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807F-7FD7-4BEC-BADF-83328FDF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hyperlink" Target="http://web.mit.edu/invention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5486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i J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7,201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371600" y="5631480"/>
            <a:ext cx="137160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14600" y="609480"/>
            <a:ext cx="40384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&amp;M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913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ack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ember 8, 2011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324480" y="3886200"/>
            <a:ext cx="1600200" cy="106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28600" y="609480"/>
            <a:ext cx="180648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133720" y="4495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Forrest Mars J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457200" y="3809520"/>
            <a:ext cx="4572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30492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&amp;M'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24386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8600" y="380880"/>
            <a:ext cx="2438280" cy="105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37339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114800"/>
            <a:ext cx="9372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, M&amp;M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&amp;M’s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&amp;M’s were small candy that soldier’s ate in the Spanish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791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M’s started out to be chocolate pellets with a plain white sugary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1M&amp;M’s were sold in C-rations , post exchanges, and ship service s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&amp;M’s were sold at the 1964 Olym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diers ate M&amp;M’s during the Spanish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4 peanut M&amp;M’s wer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orrest Mars J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est Mars was born on March 21, 1904 In Minnes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raised in Canada because his parents got divo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est went to Yale university, and got a degree in engineering in 19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est was inspired to invent M&amp;M’s when he saw soldiers eat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orrest’s dad died he took over their family company Mar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5:22:04Z</dcterms:created>
  <dc:creator>install</dc:creator>
  <dc:description/>
  <dc:language>en-US</dc:language>
  <cp:lastModifiedBy>install</cp:lastModifiedBy>
  <dcterms:modified xsi:type="dcterms:W3CDTF">2011-12-16T16:41:49Z</dcterms:modified>
  <cp:revision>8</cp:revision>
  <dc:subject/>
  <dc:title>Slide 1</dc:title>
</cp:coreProperties>
</file>